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chimes.wav" ContentType="audio/x-wav"/>
  <Override PartName="/ppt/media/push.wav" ContentType="audio/x-wav"/>
  <Override PartName="/ppt/media/type.wav" ContentType="audio/x-wav"/>
  <Override PartName="/ppt/media/arrow.wav" ContentType="audio/x-wav"/>
  <Override PartName="/ppt/media/applause.wav" ContentType="audio/x-wav"/>
  <Override PartName="/ppt/media/coin.wav" ContentType="audio/x-wav"/>
  <Override PartName="/ppt/media/explode.wav" ContentType="audio/x-wav"/>
  <Override PartName="/ppt/media/camera.wav" ContentType="audio/x-wav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B5C-A98A-4A4E-B2E1-50312566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F0F-8300-4532-9CB0-0FE6EBDA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61C-C491-4522-8FFF-5388B877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DD9-C608-4AE3-A7FA-5F395C0B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38FE-F25B-4CF0-A33B-0BCA133B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6D3F-1C4E-44F7-851A-74E5C4CD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6B49-4F81-4034-927F-11D6D591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1654-19CC-4DEF-AB77-8F5A58D0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A181-04E0-4903-B1BA-FFDB0BF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3868-A5E4-41B4-9CF8-3E57BCF5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9D5C-5574-4DE7-A688-EF1EB640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570-E37A-470A-A8DD-D22C95A1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A287-1D18-4B91-BAAD-4165A39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9A40-936F-4D4B-BDCB-22B753D0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2527-A51A-43F8-831E-4AFD471E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5A6B-F4A4-4076-913E-1F0DE40C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F7EB-A435-41B6-A3B8-56BBE406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4D6-0B73-4B8C-A2C3-46962BD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3D8-FC85-440A-BAE1-6C45C3EE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78B-254E-47F2-A28B-F74BD3EF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E49-6E5C-4D04-A41B-2716C680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7FF-618F-4844-99B5-A4B892DA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441-7289-4E5F-B329-23706B77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607-4B4F-4115-8861-5E79F24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5B18-7B32-435D-A357-5A072967D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9ED4-B178-4845-BCAF-E0D19962F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right-house.com/" TargetMode="External"/><Relationship Id="rId3" Type="http://schemas.openxmlformats.org/officeDocument/2006/relationships/hyperlink" Target="http://www.nasm.com/" TargetMode="External"/><Relationship Id="rId4" Type="http://schemas.openxmlformats.org/officeDocument/2006/relationships/hyperlink" Target="http://www.inventors.com/" TargetMode="External"/><Relationship Id="rId5" Type="http://schemas.openxmlformats.org/officeDocument/2006/relationships/hyperlink" Target="http://www.kidsclick.com/" TargetMode="External"/><Relationship Id="rId6" Type="http://schemas.openxmlformats.org/officeDocument/2006/relationships/hyperlink" Target="http://www.yahoo.com/" TargetMode="External"/><Relationship Id="rId7" Type="http://schemas.openxmlformats.org/officeDocument/2006/relationships/hyperlink" Target="http://www.cybersleuth.com/" TargetMode="External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Wright Brother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al, Kaitlin, Norbert, Andy, Devin, and Vanes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wright-hous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nasm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www.inventor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www.kidscli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www.yahoo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www.cybersleuth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8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bur and Orville Wright flew 54 seconds on the same day they flew 12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bur and Orville noticed that the aircraft did not have suitabl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winter of 1902-1903, their mechanic helped them build a gasoline eng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Wright brothers died three years after his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s notice that the bigger they made the airplane the worse it fl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  <p:sndAc>
      <p:stSnd>
        <p:snd r:embed="rId2" name="pu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father bought them a toy helicopter that encouraged them to make the air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wo older br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Wilbur got hit in the face by a bat he felt nerv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s loved inventing airp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’s houses had two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s were asked by the army and the French to make airp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2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ville  flew the aircraft in Fort Meyer,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flights went well until Orville lost a propeller and cras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crashed he broke his leg and killed his passe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396360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ook them 3 years to make the 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08 Orville Wright made the first flight for one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bur Wright died when he was 4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4647960" cy="264816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ght Brother’s planes wingspan was 12 Centi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ight of the aircraft was 274 kil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ook 12 horse power to fill it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aircraft was called 1903 Wright Fl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ville Wright flew the 1903 Wright Fl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right brothers flew and tested a gl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8120" y="4343400"/>
            <a:ext cx="388620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5:28:55Z</dcterms:created>
  <dc:creator>Montour School District</dc:creator>
  <dc:description/>
  <dc:language>en-US</dc:language>
  <cp:lastModifiedBy>Montour School District</cp:lastModifiedBy>
  <dcterms:modified xsi:type="dcterms:W3CDTF">2008-05-14T15:31:26Z</dcterms:modified>
  <cp:revision>8</cp:revision>
  <dc:subject/>
  <dc:title>The Wright Brothers </dc:title>
</cp:coreProperties>
</file>